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179-20BB-4A4D-8738-645A9E28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686-B40F-4C35-8872-ECD5B766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BC1-0E98-4D1E-B4C1-71DFE196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D60-0915-412F-842E-41E87AA2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0EA-6913-4531-9F07-B615A53D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2A6-C5C5-410F-9089-3689740A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44E-3AB5-4541-8106-ECD21289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0DE-80DC-43B4-8383-4C875623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3AD-D4F0-420B-957C-8965A2D4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23B-FB6E-4B9F-9CBC-021D703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409-4E8B-41E9-BBEF-6D09F32D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E92-70C3-4C71-85B3-90C102AE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C24F-073A-447A-8B23-449B53F2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reetypinggame.net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hit the key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ternet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typinggam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@ the first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have achieved 15 words per minute with no errors, write it down on your tracking sheet and go to the next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762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:                                    Class:                               Date:                 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5:17:26Z</dcterms:created>
  <dc:creator>Franklin High School</dc:creator>
  <dc:description/>
  <dc:language>en-US</dc:language>
  <cp:lastModifiedBy>Franklin High School</cp:lastModifiedBy>
  <dcterms:modified xsi:type="dcterms:W3CDTF">2008-04-30T17:35:40Z</dcterms:modified>
  <cp:revision>3</cp:revision>
  <dc:subject/>
  <dc:title>Typing</dc:title>
</cp:coreProperties>
</file>